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E7B-9767-40F2-BBEB-1150F9DC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700-C759-4CEF-9C74-0551B28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66-FDF4-46D9-A6D9-962CE3F5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EA0-B108-4F11-85B6-C534FF3E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2B45-73F2-4ABF-BD19-50A4A8F2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2FF-E51A-47FD-BEE5-31AEF30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A7C8-E06B-4DDB-8E8D-F89CA7AF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3E2D-7DDD-4881-8FC8-EFD3913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1EE9-E64F-4F3B-8C52-6A380842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9FD5-FDB2-40C0-B7F1-20D7FD2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FAFE-0894-44F9-8C9A-7F1A498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FCA-1FF3-48CC-8153-76ABAFF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7086-2E7C-4E00-9AA3-07DAD37B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9D4-FAF9-4266-B82B-917409F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EC8-DB2B-4807-86ED-73D17F6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C8BC-B0A4-4F9D-912D-FF50071E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C13-CC69-4265-AF3E-0184398C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C82-503C-4FD5-86CC-AE52092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D50-DAFD-4AFE-A404-CEFAF09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9A6-12E9-4838-92DD-29E3E9B8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259-52B5-4FF8-A50E-10BF826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344-7F06-4474-AF36-6314C31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9CA-A0CE-4896-AAB2-269CD8F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3E8-54DE-4D05-B59F-000B250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81EB-D97A-4807-8582-776385BDEA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A1F-71E5-44F1-80C1-5E4557804A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2. Peter’s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Equ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storts Dir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355760"/>
            <a:ext cx="746748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3. Winkel Tripel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Provides best balance of size, shape, distance and dir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1. General Purpos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any types of info on one ma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eneral understanding of landscape and lo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2. Thematic Map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hows information on one t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Easy to underst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3. Topographic Map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Use Symbols to show a variety of feat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53376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are a representation of the earth’s features on a flat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are a representation of the earth’s features on a flat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were created because they are easy to carry and fold up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A Projection is when features of the globe are transferred to a flat surfac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Each Projection will have a distortion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ome areas enlarg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ome areas shri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rections become inaccur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Mercator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Navigation Cha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True Compass Bear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storts Size of Land Mas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gt;Equator small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gt;Poles lar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Customer</cp:lastModifiedBy>
  <dcterms:modified xsi:type="dcterms:W3CDTF">2010-09-21T16:40:59Z</dcterms:modified>
  <cp:revision>22</cp:revision>
  <dc:subject/>
  <dc:title>Slide 1</dc:title>
</cp:coreProperties>
</file>